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8FD-F1C0-481B-9F28-031323D0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8C0-017A-4895-819F-3E0429E7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B10-795B-487C-B58A-8A7F4178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6C1-279C-471B-8966-357630BE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B5E5-717C-45A5-9CCA-2E86D82C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0A11-11A3-4A89-9E7B-C5F33E8B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E841-119D-4753-9033-1517111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5C84-9F1A-410C-9F7D-FC6FD90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A922-33BE-4A0B-B7C2-78DEBB64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444A-82CB-469B-ACCF-48F3320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5C31-B9FE-47A3-AA33-B4433D7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36F-3060-4DC0-AEE5-8548CEA9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4B93-4A4C-4ACD-B569-0FEE8D04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9721-9A98-4E77-A25A-DA1D0AA0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559B-CED7-4821-9E72-8005567E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947E-D9F8-4C7E-B89C-5AA5C2A1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B723-30D2-4DAD-8D3A-5C231F21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3841-76AD-45DE-AA90-912F7661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8FCA-AB1E-46F1-AFD4-5072F680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4E17-A87A-46ED-A591-DD8FDB7D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43CF-BB29-4266-806D-960DFF70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B328-49F3-46F5-982A-8D801179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D29-A318-4E60-BFAF-26F1D324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B419-8BE0-4489-A44E-9F1E8871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959E-A125-41C8-9036-B0F8D1C4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B11A-756F-4E72-A3EC-7CB2F352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36FD-283C-4A4A-87BE-14005607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7F4B-F7F5-48F1-A1FB-33B1BA83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76901-A1ED-45FD-A1B1-DF0EEEEE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E61D-F944-4B45-8481-177802C9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B98F-668A-4B33-9027-D52F7013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A310-F38C-4740-B6B7-0FCE621C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94E33-0846-4B2B-88E3-A9C1A702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B6A-0EC9-436C-BBDC-48EC93BA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5783-63E9-4A28-9578-1592DB71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3E38-F281-4BBA-8594-994589FC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251CD-C5C4-4523-BB8C-C33944DC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03BF-7493-4656-8F61-7F51FE1D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2C07-21EB-41AB-AD0A-AB9A2C4E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6A588-A0EC-429E-BEEF-D73D2D95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FC97D-9297-4500-AF0D-CF2AB84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52CE-A8D1-4336-A460-69B0876A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87CB-5FFE-4F14-94DE-B70B821F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8BEA-D323-4FF4-B3BB-F97C63F5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8A0-695D-4854-8064-3BDB2FFD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C801-3B88-4E20-9F6E-41A6C41A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70A6-F5F4-4F35-9956-80596C92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BA1B9-6A0C-4275-9F39-87340946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132F0-E85D-4F93-B3CD-AF70002E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11429-8783-46CF-9A79-432748AE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5EFB-3DBF-4081-8FBB-E042F9DA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09BEC-01DA-4E28-8243-C4E2C18C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12C39-D668-4EDE-A433-751D66FF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6CAC-8B7A-4219-9903-31CBB219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5F2AA-C0AD-4D5B-90FE-CD6FDCE7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8F7-2446-4BB4-8B56-3F34E030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44D0-7A10-4190-A5B7-6757D0DF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C42-EF17-4369-A4A4-16DF5BB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F2A-CAA6-43B6-97C4-6B7A4EA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19B-6C3C-4E02-A1DB-2F4B83D1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CFF4-0F4B-41EA-8D90-2EE7217A5AEF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EC86-EF7D-45E1-81A6-2DE84A6D256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D10E-4358-4D99-A13C-461C29ED5F6D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9c2d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9c2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31D-F813-432B-97C8-D4C1551751B6}" type="slidenum">
              <a:rPr b="0" lang="en-US" sz="11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76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7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0723-3BB9-4E19-B988-91A657B8CC3D}" type="slidenum">
              <a:rPr b="0" lang="en-US" sz="1100" spc="-1" strike="noStrike">
                <a:solidFill>
                  <a:srgbClr val="69676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cnets.iste.org/students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164040" y="-23760"/>
            <a:ext cx="5608440" cy="2090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510552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iffany Harrel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alden Universi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DUC 671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lightbulb.jpg"/>
          <p:cNvPicPr/>
          <p:nvPr/>
        </p:nvPicPr>
        <p:blipFill>
          <a:blip r:embed="rId2"/>
          <a:stretch/>
        </p:blipFill>
        <p:spPr>
          <a:xfrm>
            <a:off x="3657600" y="2286000"/>
            <a:ext cx="439596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intent of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differentiating instruction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 to maximize each student's growth and individual success by meeting each student where he or she is, and assisting in the learning proces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Hall, Strangman, &amp; Meyer, 2003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Content Placeholder 5" descr="7keys.jpg"/>
          <p:cNvPicPr/>
          <p:nvPr/>
        </p:nvPicPr>
        <p:blipFill>
          <a:blip r:embed="rId2"/>
          <a:stretch/>
        </p:blipFill>
        <p:spPr>
          <a:xfrm>
            <a:off x="3809880" y="1905120"/>
            <a:ext cx="4186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iversal Design for Learning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 a set of principles for curriculum development that give all individuals equal opportunities to learn.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CAST, 2009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4" descr="UDL wordle.jpg"/>
          <p:cNvPicPr/>
          <p:nvPr/>
        </p:nvPicPr>
        <p:blipFill>
          <a:blip r:embed="rId2"/>
          <a:stretch/>
        </p:blipFill>
        <p:spPr>
          <a:xfrm>
            <a:off x="1600200" y="2895480"/>
            <a:ext cx="52164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927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52280" y="99072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To support diverse recognition network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multiple examp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ighlight critical featu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multiple media and forma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background contex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To support diverse strategic networks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flexible models of skilled performa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opportunities to practice with suppo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ongoing, relevant feedba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flexible opportunities for demonstrating skil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To support diverse affective networks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choices of context and too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adjustable levels of challen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choices of learning contex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choices of rewar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ontent Placeholder 3" descr="differentiation.jpg"/>
          <p:cNvPicPr/>
          <p:nvPr/>
        </p:nvPicPr>
        <p:blipFill>
          <a:blip r:embed="rId1"/>
          <a:stretch/>
        </p:blipFill>
        <p:spPr>
          <a:xfrm>
            <a:off x="152280" y="533520"/>
            <a:ext cx="7832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317520" y="-19080"/>
            <a:ext cx="7667640" cy="1487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26672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uild a library of digital materi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ltimedia composition tool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phic organizer softwar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xt-to-speech and text-to-image program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D-ROM storybook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arning softwar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52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and State Standar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fessional Organiz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sheet genera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sessment ide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sson pla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matic Uni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izz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7255080" cy="1176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0" y="129492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tional Education Technology Standards for Stu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10082"/>
                </a:solidFill>
                <a:uFillTx/>
                <a:latin typeface="Trebuchet MS"/>
                <a:hlinkClick r:id="rId2"/>
              </a:rPr>
              <a:t>http://cnets.iste.org/students/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ducation Worl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www.educationworld.com/standards/state/index.shtm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kABLE (Online Disability Resour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askable.askvrd.org/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overy Schoo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discoveryschool.com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ubist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rubistar.4teachers.or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enter for Applied Special Technology. (2009).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bout UDL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Retrieved from http://cast.org/udl/index.htm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ll, T., Strangman, N., &amp; Meyer, A. (2003).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Differentiated instruction and implications for UDL implementation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Retrieved from http://www.cast.org/publications/ncac/ncac_diffinstructudl.htm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2:29:17Z</dcterms:created>
  <dc:creator>MZE</dc:creator>
  <dc:description/>
  <dc:language>en-US</dc:language>
  <cp:lastModifiedBy>MZE</cp:lastModifiedBy>
  <dcterms:modified xsi:type="dcterms:W3CDTF">2011-02-03T01:57:25Z</dcterms:modified>
  <cp:revision>40</cp:revision>
  <dc:subject/>
  <dc:title>Integrating UDL and DL Through Technology</dc:title>
</cp:coreProperties>
</file>